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89202-65A1-4F98-8D18-F9653C2AB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71A7B-02D3-49D7-B148-61A90A869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598F7-0749-46F6-BB8F-7C7A067A7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343C8-6995-4151-9BC3-DC0FE8DD8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3F1E0-9BCF-47C2-B7D5-EBB9A814E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C95D5-0E65-4517-BAF0-0D2A4AE73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D30BA-A81C-4084-82CF-7925D7AEC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2D665-F75C-4D6F-9017-BA0818F45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4F4E1-CF35-4438-9E11-D3FDB5D43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78CA7-46F8-4BB3-B0C3-721BB972F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362A6-8119-4C9A-B0D3-F9A2B63EF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C9FEE-D5B0-4172-83EA-630F91CDD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937B3-32A2-4865-AE98-913F43256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71012-45BE-4C10-80B2-EAB25D8A7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E47D8-5600-42BD-9C60-EDE5CE5EE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9F3D6-1E14-4E7A-AC0F-EC2947174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03469-ECCE-4816-93E3-414308F6D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825D1-CCE1-471B-B0EF-038427163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B8EDF-8CAB-48BA-8DD0-3B354960E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8AC83-DE90-4F3F-8932-9806B9F6A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7CABB-412C-4F7D-A86F-A57A38ED9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54B7B-E343-4688-999E-1466D6CB6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6DD4B-F72F-4560-ACF2-8744E67B5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E082A-3E42-4043-A538-E003D534D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88FBF-23D5-4E11-B1D6-6F38B00304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16C4C-5004-4DAA-B7B1-F0EE6BB4869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8</a:t>
            </a: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장 교원과 교원단체 </a:t>
            </a:r>
            <a:endParaRPr b="1" lang="en-US" sz="48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복지와 교육의 본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밀그램의 연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96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 예일대학교 심리학자 조교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tanley Milgr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나치의 학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기충격 실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5 : 35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필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적 동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집단의 이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속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상부상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신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익보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지 향상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 이상의 실현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특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은 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공성과 공익성을 띠는 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합적 성격을 띤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임의단체가 아닌 법정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역할과 기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속감과 안정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을 대변하고 권익을 보호 증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적 자질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 경제적 지위 신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정책의 형성과 결정 과정에 참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다양한 복지와 혜택 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년 복지와 사회의 건전한 발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한국의 교원단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국교원단체총연합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국교직원노동조합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교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총연합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단 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논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11" name="Picture 3" descr="MCj04042630000[1]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staff</cp:lastModifiedBy>
  <dcterms:modified xsi:type="dcterms:W3CDTF">2008-12-12T05:54:22Z</dcterms:modified>
  <cp:revision>11</cp:revision>
  <dc:subject/>
  <dc:title>제 6장 교사교육 </dc:title>
</cp:coreProperties>
</file>